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B1D-7BE7-4E41-B445-F82645AE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D46-AA20-4EC8-962E-09522046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BDC6-7FF3-4FDF-BFEE-8761BEC6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319-3318-4A4C-A6D0-8934CDA8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A9E-F36C-4BF0-B96C-99854F0E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010-4771-4E2C-BB22-D753EDF3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C33-7B0E-4916-B0AD-D81AFF39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CC9-07C1-4314-ADB0-B725CBBF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2A0-CB09-4CE0-A924-37080B3A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2537-C368-4D26-8AB8-386FFC6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810-EB0D-44E5-82A7-6A9879EF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7A0-0C37-4040-9FD2-07EA9FD0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afd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A154-4754-47C2-AAB1-908257CE5CDE}" type="slidenum"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utomated Reticulocyte Analysi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Parameters for Anemia Diagnosis and Therapeutic Monitorin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mproved Precision &amp; Laboratory Efficienc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Bruce H. Davis, M.D.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William Beaumont Hospital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Royal Oak, Michiga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4343400"/>
            <a:ext cx="8153280" cy="76320"/>
            <a:chOff x="533520" y="4343400"/>
            <a:chExt cx="8153280" cy="76320"/>
          </a:xfrm>
        </p:grpSpPr>
        <p:sp>
          <p:nvSpPr>
            <p:cNvPr id="44" name=""/>
            <p:cNvSpPr/>
            <p:nvPr/>
          </p:nvSpPr>
          <p:spPr>
            <a:xfrm>
              <a:off x="533520" y="4343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520" y="4419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62720" y="457200"/>
            <a:ext cx="3579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ythopoie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67280" y="2133720"/>
            <a:ext cx="327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Maturational continuum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EPO eff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blood retic population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IRF retics (CD71+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late re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afd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stress retic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62720" y="1752480"/>
            <a:ext cx="3579840" cy="76320"/>
            <a:chOff x="5562720" y="1752480"/>
            <a:chExt cx="3579840" cy="76320"/>
          </a:xfrm>
        </p:grpSpPr>
        <p:sp>
          <p:nvSpPr>
            <p:cNvPr id="98" name=""/>
            <p:cNvSpPr/>
            <p:nvPr/>
          </p:nvSpPr>
          <p:spPr>
            <a:xfrm>
              <a:off x="5562720" y="1752480"/>
              <a:ext cx="357984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1828800"/>
              <a:ext cx="357984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66600" y="42840"/>
          <a:ext cx="54198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42840"/>
                    <a:ext cx="54198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ticulocyte Maturatio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vivo biotinylati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K. Au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5640" y="1676520"/>
            <a:ext cx="3476880" cy="24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167652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85640" y="4267080"/>
            <a:ext cx="3476880" cy="24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981680" y="4227480"/>
            <a:ext cx="3476520" cy="247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918480" y="43275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72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19560" y="173664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6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327560"/>
            <a:ext cx="145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24 hou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54320" y="1736640"/>
            <a:ext cx="2574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e-biotinyl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112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ne Marrow Regeneration Response:  Consistent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1219320"/>
          <a:ext cx="914256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256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118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rythroid Parameters with Erythropoietic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600200"/>
            <a:ext cx="8153280" cy="76320"/>
            <a:chOff x="457200" y="1600200"/>
            <a:chExt cx="8153280" cy="76320"/>
          </a:xfrm>
        </p:grpSpPr>
        <p:sp>
          <p:nvSpPr>
            <p:cNvPr id="122" name=""/>
            <p:cNvSpPr/>
            <p:nvPr/>
          </p:nvSpPr>
          <p:spPr>
            <a:xfrm>
              <a:off x="457200" y="16002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6765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42800" y="1819440"/>
          <a:ext cx="816768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1819440"/>
                    <a:ext cx="816768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ion of Erythropoiesis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variate IRF and Retic Count Dis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0360" y="1066680"/>
          <a:ext cx="9052200" cy="57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066680"/>
                    <a:ext cx="9052200" cy="57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609480" y="1143000"/>
            <a:ext cx="8153640" cy="76320"/>
            <a:chOff x="609480" y="1143000"/>
            <a:chExt cx="8153640" cy="76320"/>
          </a:xfrm>
        </p:grpSpPr>
        <p:sp>
          <p:nvSpPr>
            <p:cNvPr id="130" name=""/>
            <p:cNvSpPr/>
            <p:nvPr/>
          </p:nvSpPr>
          <p:spPr>
            <a:xfrm>
              <a:off x="609480" y="1143000"/>
              <a:ext cx="815364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1219320"/>
              <a:ext cx="815364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nical Utility in Medical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BM or Stem Cell Regeneration post-BMT or ChemoRx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Renal Transplant Engraftment (Epo production)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Neonatal Transfusion Need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Anemia Therapy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EPO Therapy: Renal Failure, AIDS, Infants, MD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Monitor Bone Marrow Toxic Insults from drugs (eg. AZT)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Prognostic in Anemia of AIDS and Prematurit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95680" y="1447920"/>
            <a:ext cx="464688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Timing for Stem Cell Harvests following Growth Factor or Cytotoxic Drug Therapy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etection of Aplastic Crisis in Hemolytic Anemia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iagnosis and monitoring of aplastic anemia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Evaluate Normochromic Anemias of Various Etiologie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Detection of Occult or Compensated  Hemorrhage or Hemolysis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fd00"/>
                </a:solidFill>
                <a:latin typeface="Arial"/>
              </a:rPr>
              <a:t>Classification of Anemias </a:t>
            </a:r>
            <a:endParaRPr b="0" lang="en-US" sz="2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86400" y="4572000"/>
            <a:ext cx="0" cy="7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507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371600"/>
            <a:ext cx="8153280" cy="0"/>
          </a:xfrm>
          <a:prstGeom prst="line">
            <a:avLst/>
          </a:prstGeom>
          <a:ln w="25560">
            <a:solidFill>
              <a:srgbClr val="fb02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tterns of IRF and Retic counts in An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plastic anemia/crisi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ypoplastic an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M regeneration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hronic disea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Iron defici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halass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Folate/B12 deficienc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Myelodysplas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emolytic anem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Blood loss/anoxia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419720" y="15238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Any leve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6560" y="144792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/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NL/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High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5520" y="1036800"/>
            <a:ext cx="3384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Clinical Condi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1720" y="1036800"/>
            <a:ext cx="1622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Retic 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17760" y="1036800"/>
            <a:ext cx="885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b02fb"/>
                </a:solidFill>
                <a:uFillTx/>
                <a:latin typeface="Times New Roman"/>
              </a:rPr>
              <a:t>IRF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33520" y="838080"/>
            <a:ext cx="8153280" cy="76320"/>
            <a:chOff x="533520" y="838080"/>
            <a:chExt cx="8153280" cy="76320"/>
          </a:xfrm>
        </p:grpSpPr>
        <p:sp>
          <p:nvSpPr>
            <p:cNvPr id="146" name=""/>
            <p:cNvSpPr/>
            <p:nvPr/>
          </p:nvSpPr>
          <p:spPr>
            <a:xfrm>
              <a:off x="533520" y="8380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method Correlation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Single site studies:  multiple published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precision - CVs &lt;15%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ethod bias, but “clinically insignificant”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avis et al:  AJCP 102:468, 1994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sites, 11 instruments, 310 blood sampl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F and Retic counts compar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College of American Pathologists’ Reticulocyte RT Survey 1994-96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2,600 participa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rogate blood material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c % only reporte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295280"/>
            <a:ext cx="8153280" cy="76320"/>
            <a:chOff x="457200" y="1295280"/>
            <a:chExt cx="8153280" cy="76320"/>
          </a:xfrm>
        </p:grpSpPr>
        <p:sp>
          <p:nvSpPr>
            <p:cNvPr id="151" name=""/>
            <p:cNvSpPr/>
            <p:nvPr/>
          </p:nvSpPr>
          <p:spPr>
            <a:xfrm>
              <a:off x="457200" y="12952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2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tic Counts:  Inter-method Correl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6600" y="990720"/>
          <a:ext cx="29052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990720"/>
                    <a:ext cx="29052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095640" y="990720"/>
          <a:ext cx="292428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990720"/>
                    <a:ext cx="29242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76320" y="4044960"/>
          <a:ext cx="2895480" cy="26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4044960"/>
                    <a:ext cx="289548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048120" y="4037040"/>
          <a:ext cx="2971800" cy="266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8120" y="4037040"/>
                    <a:ext cx="297180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86520" y="4038480"/>
          <a:ext cx="2981160" cy="2667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6520" y="4038480"/>
                    <a:ext cx="29811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095880" y="990720"/>
          <a:ext cx="2971800" cy="289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990720"/>
                    <a:ext cx="29718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"/>
          <p:cNvGrpSpPr/>
          <p:nvPr/>
        </p:nvGrpSpPr>
        <p:grpSpPr>
          <a:xfrm>
            <a:off x="457200" y="762120"/>
            <a:ext cx="8153280" cy="75960"/>
            <a:chOff x="457200" y="762120"/>
            <a:chExt cx="8153280" cy="75960"/>
          </a:xfrm>
        </p:grpSpPr>
        <p:sp>
          <p:nvSpPr>
            <p:cNvPr id="167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RF: Inter-method Corre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6520" y="1409760"/>
          <a:ext cx="559908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409760"/>
                    <a:ext cx="55990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04920" y="914400"/>
            <a:ext cx="8153280" cy="76320"/>
            <a:chOff x="304920" y="914400"/>
            <a:chExt cx="8153280" cy="76320"/>
          </a:xfrm>
        </p:grpSpPr>
        <p:sp>
          <p:nvSpPr>
            <p:cNvPr id="173" name=""/>
            <p:cNvSpPr/>
            <p:nvPr/>
          </p:nvSpPr>
          <p:spPr>
            <a:xfrm>
              <a:off x="304920" y="914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9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ed Hematology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rable New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5200" y="1600200"/>
            <a:ext cx="8307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4 and CD8 Lymphocyte Subs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culocytes with immature reticulocyte maturation (IRF) - alias RM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eutrophil activation marker, such as quantitative PMN CD64 express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ticulated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latelet activation markers (eg. CD62 or CD41 expression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b F containing RBC enumeration (Kleihauer-Bettke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mmune activation profile (cytokine/chemokine R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5+ B Cells or light chain+ B cells (CLL, etc.)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tem Cell enumeration (CD34+ cell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33520" y="1295280"/>
            <a:ext cx="8153280" cy="76320"/>
            <a:chOff x="533520" y="1295280"/>
            <a:chExt cx="8153280" cy="76320"/>
          </a:xfrm>
        </p:grpSpPr>
        <p:sp>
          <p:nvSpPr>
            <p:cNvPr id="49" name=""/>
            <p:cNvSpPr/>
            <p:nvPr/>
          </p:nvSpPr>
          <p:spPr>
            <a:xfrm>
              <a:off x="533520" y="12952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ticulocyte Proficiency Test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llege of American Pathologi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840" y="2452680"/>
            <a:ext cx="77378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4-96 Program - surrogate blood material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ethodologies Approved for Tes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New Methylene Blue visual microscop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ysmex R series (auramine O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w Cytometry - Thiazole Orang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w Cytometry - Other dy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ulter STKS/MAXM - NMB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iles Technicon H3 - Oxazine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178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533520"/>
          <a:ext cx="9142560" cy="63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4256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369000" y="90360"/>
            <a:ext cx="835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 Survey 1995 RT-C:  Distribution of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57200" y="685800"/>
            <a:ext cx="8153280" cy="76320"/>
            <a:chOff x="457200" y="685800"/>
            <a:chExt cx="8153280" cy="76320"/>
          </a:xfrm>
        </p:grpSpPr>
        <p:sp>
          <p:nvSpPr>
            <p:cNvPr id="184" name=""/>
            <p:cNvSpPr/>
            <p:nvPr/>
          </p:nvSpPr>
          <p:spPr>
            <a:xfrm>
              <a:off x="457200" y="685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762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0" y="76320"/>
          <a:ext cx="9142560" cy="67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2560" cy="67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17360" y="76320"/>
          <a:ext cx="89503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76320"/>
                    <a:ext cx="89503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91960" y="914400"/>
            <a:ext cx="8699760" cy="5915520"/>
            <a:chOff x="291960" y="914400"/>
            <a:chExt cx="8699760" cy="591552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0" t="0" r="0" b="11652"/>
            <a:stretch/>
          </p:blipFill>
          <p:spPr>
            <a:xfrm>
              <a:off x="291960" y="914400"/>
              <a:ext cx="4267440" cy="52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2"/>
            <a:srcRect l="26726" t="0" r="2480" b="11650"/>
            <a:stretch/>
          </p:blipFill>
          <p:spPr>
            <a:xfrm>
              <a:off x="4865760" y="914400"/>
              <a:ext cx="4125960" cy="52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278000" y="6089760"/>
              <a:ext cx="75643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94360" y="6249960"/>
              <a:ext cx="3710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A          B         C         D        E         F        G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Flow Cytometer Instrument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7520" y="6249960"/>
              <a:ext cx="2589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1        2       3       4       5       6</a:t>
              </a:r>
              <a:endParaRPr b="0" lang="en-US" sz="1400" spc="-1" strike="noStrike">
                <a:solidFill>
                  <a:srgbClr val="fafd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Specimen Number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319560" y="10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afd00"/>
                  </a:solidFill>
                  <a:uFillTx/>
                  <a:latin typeface="Arial"/>
                </a:rPr>
                <a:t>A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43920" y="1071720"/>
              <a:ext cx="34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afd00"/>
                  </a:solidFill>
                  <a:uFillTx/>
                  <a:latin typeface="Arial"/>
                </a:rPr>
                <a:t>B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74600" y="90360"/>
            <a:ext cx="890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 RT Survey Experience:  No Bias with TO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to FCM instru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own or Potential Interfer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59760" y="1173240"/>
            <a:ext cx="7941960" cy="55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ellular Eleme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telet clumps or giant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ated cells or fragme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RBC Inclus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ll-Jolly bo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inz or Pappenheimer bo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sites (malaris, babesi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Miscellaneous caus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flourescence (drugs, porphyria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BC aggregation (paraproteins, cold agglutinin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incidence (eg. platelet and RBC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normal RBCs, hemolysi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33520" y="914400"/>
            <a:ext cx="8153280" cy="76320"/>
            <a:chOff x="533520" y="914400"/>
            <a:chExt cx="8153280" cy="76320"/>
          </a:xfrm>
        </p:grpSpPr>
        <p:sp>
          <p:nvSpPr>
            <p:cNvPr id="206" name=""/>
            <p:cNvSpPr/>
            <p:nvPr/>
          </p:nvSpPr>
          <p:spPr>
            <a:xfrm>
              <a:off x="533520" y="9144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520" y="9907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rols for Clinical 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23680" y="1476360"/>
            <a:ext cx="66906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mericial Preparation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&amp;D Systems, Minneapolis, M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ck Lab, Omaha, 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rument manufacturer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frigerated blood samp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term QC by carry-over comparis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st expensiv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 not detect long-term drif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eterinary blood sample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cin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57200" y="1143000"/>
            <a:ext cx="8153280" cy="76320"/>
            <a:chOff x="457200" y="1143000"/>
            <a:chExt cx="8153280" cy="76320"/>
          </a:xfrm>
        </p:grpSpPr>
        <p:sp>
          <p:nvSpPr>
            <p:cNvPr id="211" name=""/>
            <p:cNvSpPr/>
            <p:nvPr/>
          </p:nvSpPr>
          <p:spPr>
            <a:xfrm>
              <a:off x="457200" y="11430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7200" y="12193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sons for NOT utilizing automated reticulocyte coun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524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Volume does not exceed 3-5/da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hysicians expect “stat” resul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aiting for the “next generation” instrume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We’ve always done it this way”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Technologists like doing manual count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1828800"/>
            <a:ext cx="8153280" cy="76320"/>
            <a:chOff x="533520" y="1828800"/>
            <a:chExt cx="8153280" cy="76320"/>
          </a:xfrm>
        </p:grpSpPr>
        <p:sp>
          <p:nvSpPr>
            <p:cNvPr id="216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52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Automated Reticulocyte Coun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80-90 Flow cytometric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nke: Pyronin Y                   - Jacobberger: DiOC(3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tho:  Acridine Orange       - Others: PI, ethidium Br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zger, Corash:  Thioflavin T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e (BDIS), Davis &amp; Bigelow: Thiazole Orang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0:  TOA Sysmex R instruments: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uramine O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2-96: Hematology instruments light scatter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on - H3:  Oxazine 75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 Gen-S, STKS &amp; MAXM: NM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bott Cell Dyn 3500:  NMB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1996:  Hematology instruments - fluorescenc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bott Cell Dyn 4000: thiazole-like dy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lter Gen-S: CPO dy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838080"/>
            <a:ext cx="8153280" cy="76320"/>
            <a:chOff x="457200" y="838080"/>
            <a:chExt cx="8153280" cy="76320"/>
          </a:xfrm>
        </p:grpSpPr>
        <p:sp>
          <p:nvSpPr>
            <p:cNvPr id="54" name=""/>
            <p:cNvSpPr/>
            <p:nvPr/>
          </p:nvSpPr>
          <p:spPr>
            <a:xfrm>
              <a:off x="457200" y="8380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200" y="9144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tomated Reticulocyte Count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Available - 199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360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hiazole Orange (BD) by Flow Cytomet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PO dye (Coulter) by flow cytomet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OA Sysmex R series and SE-Avante by  Auramine 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bott Cell-Dyn 4000 by CD4K53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X Vega by thiazole orang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240" y="2513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ayer Technicon H3, Advia by oxazine dy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ulter STKS/MAXM and Gen-S with new methylene blue (NMB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bbott Cell-Dyn 3500 with NMB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7680" y="1919160"/>
            <a:ext cx="341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</a:rPr>
              <a:t>Fluoresence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84760" y="1919160"/>
            <a:ext cx="360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dfca"/>
                </a:solidFill>
                <a:uFillTx/>
                <a:latin typeface="Times New Roman"/>
              </a:rPr>
              <a:t>Light Scatter Method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" y="1752480"/>
            <a:ext cx="8153280" cy="76320"/>
            <a:chOff x="457200" y="1752480"/>
            <a:chExt cx="8153280" cy="76320"/>
          </a:xfrm>
        </p:grpSpPr>
        <p:sp>
          <p:nvSpPr>
            <p:cNvPr id="62" name=""/>
            <p:cNvSpPr/>
            <p:nvPr/>
          </p:nvSpPr>
          <p:spPr>
            <a:xfrm>
              <a:off x="45720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tages of Automated Reticulocy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1752480"/>
            <a:ext cx="8153280" cy="76320"/>
            <a:chOff x="533520" y="1752480"/>
            <a:chExt cx="8153280" cy="76320"/>
          </a:xfrm>
        </p:grpSpPr>
        <p:sp>
          <p:nvSpPr>
            <p:cNvPr id="66" name=""/>
            <p:cNvSpPr/>
            <p:nvPr/>
          </p:nvSpPr>
          <p:spPr>
            <a:xfrm>
              <a:off x="533520" y="175248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182880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2920" y="2092320"/>
            <a:ext cx="775296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menable to labor efficiencies or robot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ster analysis per samp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for batch analysis or random acce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mproved precision of retic counting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or to visual microscopic coun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eater obje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ew parameters of erythropoie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culocyte hemoglobin cont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arameters with Automated Reticulocyte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828800"/>
            <a:ext cx="8153280" cy="76320"/>
            <a:chOff x="457200" y="1828800"/>
            <a:chExt cx="8153280" cy="76320"/>
          </a:xfrm>
        </p:grpSpPr>
        <p:sp>
          <p:nvSpPr>
            <p:cNvPr id="71" name=""/>
            <p:cNvSpPr/>
            <p:nvPr/>
          </p:nvSpPr>
          <p:spPr>
            <a:xfrm>
              <a:off x="457200" y="18288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19051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2120" y="2411280"/>
            <a:ext cx="83055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mmature Reticulocyte Fraction (IRF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lects rate of erythropoietic activit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on many instruments, method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erly termed reticulocyte maturity index (RMI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laces need for “corrected” reticulocyte cou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ticulocyte MCHC (hypochromic Retic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cts early functional iron deficiency in Epo -     Studies by Brugnaro, d’Onofrio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only on Technicon H3 to dat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25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RF measured as fraction (0.00 - 1.00 range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mex R:  IRF = HFR + MFR (Ref Range: 0.05-0.20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azole Orange:  Cursor at 95% interval  (Ref Range: 0.2-0.5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ort with reticulocyte % and absolute count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Graphic display of retic count vs. IRF 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erimpose refernce ranges for anemia classification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ting sequential samples shows erythroid response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Report results with other CBC parameter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ags for increased reticulocytosis and hypoproliferative response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utomated, random access, discrete testing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50120" y="198360"/>
            <a:ext cx="72975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iculocyte Enumeration wit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520" y="1371600"/>
            <a:ext cx="8153280" cy="76320"/>
            <a:chOff x="533520" y="1371600"/>
            <a:chExt cx="8153280" cy="76320"/>
          </a:xfrm>
        </p:grpSpPr>
        <p:sp>
          <p:nvSpPr>
            <p:cNvPr id="77" name=""/>
            <p:cNvSpPr/>
            <p:nvPr/>
          </p:nvSpPr>
          <p:spPr>
            <a:xfrm>
              <a:off x="53352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mature Reticulocyte Fraction (IRF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azole Orange by Flow Cytome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86400" y="1752480"/>
            <a:ext cx="365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RF =  #HFR/#Retic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8901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ata Analy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 nucleated cells (nRBCs, PMNS, lymph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 platelet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IRF reg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8901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e retic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1790640"/>
            <a:ext cx="4724280" cy="4533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80440" y="259704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BC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5600" y="2514600"/>
            <a:ext cx="150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iculocyte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6600" y="4540320"/>
            <a:ext cx="10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60640" y="2119320"/>
            <a:ext cx="115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ated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55240" y="2871720"/>
            <a:ext cx="55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371600"/>
            <a:ext cx="8153280" cy="76320"/>
            <a:chOff x="457200" y="1371600"/>
            <a:chExt cx="8153280" cy="76320"/>
          </a:xfrm>
        </p:grpSpPr>
        <p:sp>
          <p:nvSpPr>
            <p:cNvPr id="88" name=""/>
            <p:cNvSpPr/>
            <p:nvPr/>
          </p:nvSpPr>
          <p:spPr>
            <a:xfrm>
              <a:off x="457200" y="137160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144792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idence for Pathophysiologic Relevanc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Immature Reticulocyte Fraction (IRF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Erythropoietin therapeutic effect:  IRF 1- 3 day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71 vs TO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JH study, Major et al.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imal model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n vivo biotinylation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D71 vs. TO studie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BMT recover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IRF earliest parameter of engraftmen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various methods with demonstrated efficacy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1447920"/>
            <a:ext cx="8153280" cy="75960"/>
            <a:chOff x="533520" y="1447920"/>
            <a:chExt cx="8153280" cy="75960"/>
          </a:xfrm>
        </p:grpSpPr>
        <p:sp>
          <p:nvSpPr>
            <p:cNvPr id="93" name=""/>
            <p:cNvSpPr/>
            <p:nvPr/>
          </p:nvSpPr>
          <p:spPr>
            <a:xfrm>
              <a:off x="533520" y="1447920"/>
              <a:ext cx="8153280" cy="0"/>
            </a:xfrm>
            <a:prstGeom prst="line">
              <a:avLst/>
            </a:prstGeom>
            <a:ln w="50760">
              <a:solidFill>
                <a:srgbClr val="8901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1523880"/>
              <a:ext cx="8153280" cy="0"/>
            </a:xfrm>
            <a:prstGeom prst="line">
              <a:avLst/>
            </a:prstGeom>
            <a:ln w="25560">
              <a:solidFill>
                <a:srgbClr val="fb02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8T10:23:20Z</dcterms:created>
  <dc:creator>Bruce H. Davis, M.D.</dc:creator>
  <dc:description/>
  <dc:language>en-US</dc:language>
  <cp:lastModifiedBy>Cytometry Laboratories</cp:lastModifiedBy>
  <dcterms:modified xsi:type="dcterms:W3CDTF">1998-04-13T19:53:04Z</dcterms:modified>
  <cp:revision>59</cp:revision>
  <dc:subject/>
  <dc:title>PMN CD64 talk Abbot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