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94B-7170-4EBB-B688-BFCC4339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85C-54C7-49B5-B827-66CA99E9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EB7-9789-4B66-BE5B-32A69BC4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5F82-55E1-4FBF-A13E-ACDA51D8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3B06-BADF-45B8-9323-E8EDE3D6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3DF-F34A-40D4-884C-60BBA4A6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6E52-062D-4284-AF11-423D1A85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5B9-CE53-43AD-BA64-53BAD158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F92-0D3F-45E7-A250-F55C4BE5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965-0CA0-4A04-AD88-3343DEF3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FED8-70F4-47C4-AB44-FDEAD1FE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7781-485E-4929-8BB2-4C8C462B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DA47-7F92-4315-B29A-65B7433B6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7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SDETEC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534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SDETEC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5COLOR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2T13:55:51Z</dcterms:created>
  <dc:creator>Cytometry Laboratories</dc:creator>
  <dc:description/>
  <dc:language>en-US</dc:language>
  <cp:lastModifiedBy>Cytometry Laboratories</cp:lastModifiedBy>
  <dcterms:modified xsi:type="dcterms:W3CDTF">1998-04-22T14:28:36Z</dcterms:modified>
  <cp:revision>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TelfordW@hs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K:\htdocs\flowcyt\educate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