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889-F4BA-45E1-AEC1-F7ED6D21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C2F-55A5-4F63-AEDE-45F6AFD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5DB-65EA-4AE8-8C82-B02BA861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5122-4861-4E91-A9BA-0DFC4B5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D11-F1B2-4EA5-8FEB-87E5A145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183-54D9-4FE2-9814-002D2438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C84-EECF-42A3-BC8E-CF0C522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E46-8EA2-43E7-9D09-55730F2E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D8A-CF1E-4D95-8120-2031B97F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5B5E-9313-4E32-8213-A4371722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DB7-89D4-46DD-82B1-B03493E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AD7-022D-49CB-9A17-1CF0AD12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518-E3B2-45B5-90A3-46ABF3F11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MCA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XRD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IT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PC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Y5SP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CY5SP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TCPED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FITCPECY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RET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54:34Z</dcterms:created>
  <dc:creator>Cytometry Laboratories</dc:creator>
  <dc:description/>
  <dc:language>en-US</dc:language>
  <cp:lastModifiedBy>Cytometry Laboratories</cp:lastModifiedBy>
  <dcterms:modified xsi:type="dcterms:W3CDTF">1998-04-22T15:05:12Z</dcterms:modified>
  <cp:revision>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